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A1E1-3B9B-471D-A1F0-42920402D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7A72-18F0-45EF-8FD9-9B5DA27A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56E8-0E44-4F89-A770-4539D4F8B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D590-1B4A-4B39-BB2E-ED6342A96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20A8-BEFF-4986-9E9A-5F4536BD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A8E0-AD5A-4D9F-8639-B660AB75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FA4C-E6A7-4ACB-B181-24992EFD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873D-D399-4BC0-913A-8DAD35E4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B05A-925E-4A2A-88CC-F5F2BA41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C8B0-5F82-44F4-82B1-59575786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3B8C-D081-4EA4-90BF-D6430AE7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D58C-6E72-4670-8257-C042B574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FCF0-9711-4D3C-BE3C-F2BD7445B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" Target=""/><Relationship Id="rId3" Type="http://schemas.openxmlformats.org/officeDocument/2006/relationships/slide" Target="slide13.xml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343400" y="762120"/>
            <a:ext cx="4041720" cy="5105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533520"/>
            <a:ext cx="49528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IAI C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purasul, ca simbol al Pastelui si mesager al cadourilor pentru copii, a aparut prima data  in Germania?In dimineata de Paste copiii asteapta cu nerabdare cadourile iepurasului care sunt in general ascunse prin casa sau gradi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971800"/>
            <a:ext cx="464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stinii au vazut in miel un simbol al Invierii lui Isus si multe sunt popoarele care servesc miel la masa de Paste? Cea mai veche rugaciune de binecuvantare a mieilor a aparut intr-o manastire din Italia .Se considera aducatoare de noroc vederea unui miel, in special in aceasta perio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5181480"/>
            <a:ext cx="53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itia populara considera oul rosu ca avand puteri tamaduitoare si de indepartare a raului, aducand sanatate, frumusete si spor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624852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 REZOLVAM PROBLEME CU IEPURASI, OUA, MIEI…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286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APROPIE PASTELE, SARBATOARE ASOCIATA DE COPII CU VENIREA IEPURASULU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3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3429000"/>
            <a:ext cx="2168640" cy="2905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066680" y="914400"/>
            <a:ext cx="76201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ma a vopsit 33 oua rosii, 17 oua portocalii, iar Maria a reusit sa vopseasca cu 15 oua mai putin decat mama e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 oua au vopsit in tota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3809880" y="3962520"/>
            <a:ext cx="9907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5410080" y="4724280"/>
            <a:ext cx="990720" cy="685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4" action="ppaction://hlinksldjump"/>
          </p:cNvPr>
          <p:cNvSpPr/>
          <p:nvPr/>
        </p:nvSpPr>
        <p:spPr>
          <a:xfrm>
            <a:off x="6858000" y="3962520"/>
            <a:ext cx="9907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5" action="ppaction://hlinksldjump"/>
          </p:cNvPr>
          <p:cNvSpPr/>
          <p:nvPr/>
        </p:nvSpPr>
        <p:spPr>
          <a:xfrm>
            <a:off x="5410080" y="2971800"/>
            <a:ext cx="990720" cy="685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76201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257800" y="228600"/>
            <a:ext cx="3305160" cy="30844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80880" y="1143000"/>
            <a:ext cx="4724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purila a adus 100 de oua. Rosii si portocalii sunt 89, iar albastre si rosii 8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 oua sunt de fiecare culo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3352680"/>
            <a:ext cx="5029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 portocalii, 11 rosii, 18 alba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4267080"/>
            <a:ext cx="5029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 rosii, 18  albastre, 11 portocal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457200" y="5105520"/>
            <a:ext cx="5029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 portocalii, 11 albastre, 71 ros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6019920"/>
            <a:ext cx="5029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 albastre, 72 rosii, 18 portocal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lastslide"/>
          </p:cNvPr>
          <p:cNvSpPr/>
          <p:nvPr/>
        </p:nvSpPr>
        <p:spPr>
          <a:xfrm>
            <a:off x="7467480" y="601992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14304" y="10800"/>
                </a:moveTo>
                <a:lnTo>
                  <a:pt x="3798" y="17806"/>
                </a:lnTo>
                <a:lnTo>
                  <a:pt x="3798" y="3794"/>
                </a:lnTo>
                <a:close/>
              </a:path>
              <a:path fill="darken" w="21609" h="21600">
                <a:moveTo>
                  <a:pt x="16149" y="3794"/>
                </a:moveTo>
                <a:lnTo>
                  <a:pt x="16149" y="17806"/>
                </a:lnTo>
                <a:lnTo>
                  <a:pt x="17811" y="17806"/>
                </a:lnTo>
                <a:lnTo>
                  <a:pt x="17811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2808360" cy="3809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105520" y="3733920"/>
            <a:ext cx="2212920" cy="2514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486400" y="1828800"/>
            <a:ext cx="2133720" cy="2133720"/>
          </a:xfrm>
          <a:prstGeom prst="cloudCallout">
            <a:avLst>
              <a:gd name="adj1" fmla="val -65699"/>
              <a:gd name="adj2" fmla="val 930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 AI FOST ATEN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 INCEARC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66880" y="533520"/>
            <a:ext cx="2362320" cy="16002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 GANDES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 TE GRAB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previousslide"/>
          </p:cNvPr>
          <p:cNvSpPr/>
          <p:nvPr/>
        </p:nvSpPr>
        <p:spPr>
          <a:xfrm>
            <a:off x="8001000" y="5791320"/>
            <a:ext cx="533520" cy="7617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761760"/>
              <a:gd name="textAreaBottom" fmla="*/ 727200 h 761760"/>
            </a:gdLst>
            <a:ahLst/>
            <a:rect l="textAreaLeft" t="textAreaTop" r="textAreaRight" b="textAreaBottom"/>
            <a:pathLst>
              <a:path w="21600" h="30834">
                <a:moveTo>
                  <a:pt x="0" y="0"/>
                </a:moveTo>
                <a:lnTo>
                  <a:pt x="21600" y="0"/>
                </a:lnTo>
                <a:lnTo>
                  <a:pt x="21600" y="30834"/>
                </a:lnTo>
                <a:lnTo>
                  <a:pt x="0" y="30834"/>
                </a:lnTo>
                <a:close/>
              </a:path>
              <a:path fill="lightenLess" w="21600" h="308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834">
                <a:moveTo>
                  <a:pt x="21600" y="0"/>
                </a:moveTo>
                <a:lnTo>
                  <a:pt x="21600" y="30834"/>
                </a:lnTo>
                <a:lnTo>
                  <a:pt x="20200" y="29434"/>
                </a:lnTo>
                <a:lnTo>
                  <a:pt x="20200" y="1400"/>
                </a:lnTo>
                <a:close/>
              </a:path>
              <a:path fill="darkenLess" w="21600" h="30834">
                <a:moveTo>
                  <a:pt x="21600" y="30834"/>
                </a:moveTo>
                <a:lnTo>
                  <a:pt x="0" y="30834"/>
                </a:lnTo>
                <a:lnTo>
                  <a:pt x="1400" y="29434"/>
                </a:lnTo>
                <a:lnTo>
                  <a:pt x="20200" y="29434"/>
                </a:lnTo>
                <a:close/>
              </a:path>
              <a:path fill="lighten" w="21600" h="30834">
                <a:moveTo>
                  <a:pt x="0" y="308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9434"/>
                </a:lnTo>
                <a:close/>
              </a:path>
              <a:path fill="darken" w="21600" h="30834">
                <a:moveTo>
                  <a:pt x="3794" y="12110"/>
                </a:moveTo>
                <a:lnTo>
                  <a:pt x="7301" y="12110"/>
                </a:lnTo>
                <a:lnTo>
                  <a:pt x="7301" y="17445"/>
                </a:lnTo>
                <a:cubicBezTo>
                  <a:pt x="7301" y="18368"/>
                  <a:pt x="8102" y="19099"/>
                  <a:pt x="9138" y="19099"/>
                </a:cubicBezTo>
                <a:lnTo>
                  <a:pt x="10800" y="19099"/>
                </a:lnTo>
                <a:cubicBezTo>
                  <a:pt x="11836" y="19099"/>
                  <a:pt x="12636" y="18368"/>
                  <a:pt x="12636" y="17445"/>
                </a:cubicBezTo>
                <a:lnTo>
                  <a:pt x="12636" y="12110"/>
                </a:lnTo>
                <a:lnTo>
                  <a:pt x="10800" y="12110"/>
                </a:lnTo>
                <a:lnTo>
                  <a:pt x="14308" y="8602"/>
                </a:lnTo>
                <a:lnTo>
                  <a:pt x="17981" y="12110"/>
                </a:lnTo>
                <a:lnTo>
                  <a:pt x="16144" y="12110"/>
                </a:lnTo>
                <a:lnTo>
                  <a:pt x="16144" y="17445"/>
                </a:lnTo>
                <a:cubicBezTo>
                  <a:pt x="16144" y="20213"/>
                  <a:pt x="13568" y="22772"/>
                  <a:pt x="10800" y="22772"/>
                </a:cubicBezTo>
                <a:lnTo>
                  <a:pt x="9138" y="22772"/>
                </a:lnTo>
                <a:cubicBezTo>
                  <a:pt x="6370" y="22772"/>
                  <a:pt x="3794" y="20213"/>
                  <a:pt x="3794" y="17445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23880" y="635040"/>
            <a:ext cx="6372360" cy="5110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715000" y="152280"/>
            <a:ext cx="2514600" cy="20574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LICITAR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 REUS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previousslide"/>
          </p:cNvPr>
          <p:cNvSpPr/>
          <p:nvPr/>
        </p:nvSpPr>
        <p:spPr>
          <a:xfrm>
            <a:off x="7924680" y="563868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  <a:path fill="darken" w="21600" h="25914">
                <a:moveTo>
                  <a:pt x="3794" y="9650"/>
                </a:moveTo>
                <a:lnTo>
                  <a:pt x="7301" y="9650"/>
                </a:lnTo>
                <a:lnTo>
                  <a:pt x="7301" y="14985"/>
                </a:lnTo>
                <a:cubicBezTo>
                  <a:pt x="7301" y="15907"/>
                  <a:pt x="8102" y="16639"/>
                  <a:pt x="9138" y="16639"/>
                </a:cubicBezTo>
                <a:lnTo>
                  <a:pt x="10800" y="16639"/>
                </a:lnTo>
                <a:cubicBezTo>
                  <a:pt x="11836" y="16639"/>
                  <a:pt x="12636" y="15907"/>
                  <a:pt x="12636" y="14985"/>
                </a:cubicBezTo>
                <a:lnTo>
                  <a:pt x="12636" y="9650"/>
                </a:lnTo>
                <a:lnTo>
                  <a:pt x="10800" y="9650"/>
                </a:lnTo>
                <a:lnTo>
                  <a:pt x="14308" y="6142"/>
                </a:lnTo>
                <a:lnTo>
                  <a:pt x="17981" y="9650"/>
                </a:lnTo>
                <a:lnTo>
                  <a:pt x="16144" y="9650"/>
                </a:lnTo>
                <a:lnTo>
                  <a:pt x="16144" y="14985"/>
                </a:lnTo>
                <a:cubicBezTo>
                  <a:pt x="16144" y="17753"/>
                  <a:pt x="13568" y="20312"/>
                  <a:pt x="10800" y="20312"/>
                </a:cubicBezTo>
                <a:lnTo>
                  <a:pt x="9138" y="20312"/>
                </a:lnTo>
                <a:cubicBezTo>
                  <a:pt x="6370" y="20312"/>
                  <a:pt x="3794" y="17753"/>
                  <a:pt x="3794" y="14985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3903480" cy="4876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167520" y="2133720"/>
            <a:ext cx="2157480" cy="44575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380880"/>
            <a:ext cx="83818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E-AI DESCURCAT EXCELENT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U SIGURANTA VEI GASI SI CADOURILE CE LE VOI ADUCE DE PASTI!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666880" y="5791320"/>
            <a:ext cx="431496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ATERIAL REALIZAT D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NST. LOREDANA CRISA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4572000" cy="3645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3520" y="53352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e directie merge masina din imagi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5334120" y="3657600"/>
            <a:ext cx="2743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e dreap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5181480" y="2666880"/>
            <a:ext cx="2743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e sta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4" action="ppaction://hlinksldjump"/>
          </p:cNvPr>
          <p:cNvSpPr/>
          <p:nvPr/>
        </p:nvSpPr>
        <p:spPr>
          <a:xfrm>
            <a:off x="5334120" y="4876920"/>
            <a:ext cx="27432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 pe 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76960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5880" y="304920"/>
            <a:ext cx="2462400" cy="3562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880" y="1371600"/>
            <a:ext cx="53341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purasul i-a adus lui Danut o masina, doua ciocolate, noua bomboane si o carte cu poves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 dulciuri a primit Danut de la Iepura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4495680"/>
            <a:ext cx="8384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2" action="ppaction://hlinksldjump"/>
          </p:cNvPr>
          <p:cNvSpPr/>
          <p:nvPr/>
        </p:nvSpPr>
        <p:spPr>
          <a:xfrm>
            <a:off x="2057400" y="4495680"/>
            <a:ext cx="8380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4495680"/>
            <a:ext cx="8380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4" action="ppaction://hlinksldjump"/>
          </p:cNvPr>
          <p:cNvSpPr/>
          <p:nvPr/>
        </p:nvSpPr>
        <p:spPr>
          <a:xfrm>
            <a:off x="5257800" y="4495680"/>
            <a:ext cx="8380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73152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19008" y="10800"/>
                </a:lnTo>
                <a:lnTo>
                  <a:pt x="499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4267080"/>
            <a:ext cx="2239920" cy="2286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90720" y="9144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ca are in total 30 de pui. Daca   17 sunt albi , aflati cati puisori sunt pestri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2" action="ppaction://hlinksldjump"/>
          </p:cNvPr>
          <p:cNvSpPr/>
          <p:nvPr/>
        </p:nvSpPr>
        <p:spPr>
          <a:xfrm>
            <a:off x="3276720" y="3886200"/>
            <a:ext cx="685800" cy="106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3" action="ppaction://hlinksldjump"/>
          </p:cNvPr>
          <p:cNvSpPr/>
          <p:nvPr/>
        </p:nvSpPr>
        <p:spPr>
          <a:xfrm>
            <a:off x="4495680" y="2743200"/>
            <a:ext cx="685800" cy="106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5029200"/>
            <a:ext cx="685800" cy="106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4" action="ppaction://hlinksldjump"/>
          </p:cNvPr>
          <p:cNvSpPr/>
          <p:nvPr/>
        </p:nvSpPr>
        <p:spPr>
          <a:xfrm>
            <a:off x="5791320" y="3962520"/>
            <a:ext cx="685800" cy="10666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7315200" y="5715000"/>
            <a:ext cx="838080" cy="99072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990720"/>
              <a:gd name="textAreaBottom" fmla="*/ 936720 h 990720"/>
            </a:gdLst>
            <a:ahLst/>
            <a:rect l="textAreaLeft" t="textAreaTop" r="textAreaRight" b="textAreaBottom"/>
            <a:pathLst>
              <a:path w="21600" h="25532">
                <a:moveTo>
                  <a:pt x="0" y="0"/>
                </a:moveTo>
                <a:lnTo>
                  <a:pt x="21600" y="0"/>
                </a:lnTo>
                <a:lnTo>
                  <a:pt x="21600" y="25532"/>
                </a:lnTo>
                <a:lnTo>
                  <a:pt x="0" y="25532"/>
                </a:lnTo>
                <a:close/>
              </a:path>
              <a:path fill="lightenLess" w="21600" h="255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532">
                <a:moveTo>
                  <a:pt x="21600" y="0"/>
                </a:moveTo>
                <a:lnTo>
                  <a:pt x="21600" y="25532"/>
                </a:lnTo>
                <a:lnTo>
                  <a:pt x="20200" y="24132"/>
                </a:lnTo>
                <a:lnTo>
                  <a:pt x="20200" y="1400"/>
                </a:lnTo>
                <a:close/>
              </a:path>
              <a:path fill="darkenLess" w="21600" h="25532">
                <a:moveTo>
                  <a:pt x="21600" y="25532"/>
                </a:moveTo>
                <a:lnTo>
                  <a:pt x="0" y="25532"/>
                </a:lnTo>
                <a:lnTo>
                  <a:pt x="1400" y="24132"/>
                </a:lnTo>
                <a:lnTo>
                  <a:pt x="20200" y="24132"/>
                </a:lnTo>
                <a:close/>
              </a:path>
              <a:path fill="lighten" w="21600" h="25532">
                <a:moveTo>
                  <a:pt x="0" y="255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132"/>
                </a:lnTo>
                <a:close/>
              </a:path>
              <a:path fill="darken" w="21600" h="25532">
                <a:moveTo>
                  <a:pt x="3794" y="5760"/>
                </a:moveTo>
                <a:lnTo>
                  <a:pt x="17806" y="12766"/>
                </a:lnTo>
                <a:lnTo>
                  <a:pt x="3794" y="1977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2689200"/>
            <a:ext cx="4343400" cy="3822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90720" y="609480"/>
            <a:ext cx="7696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rata avea  34 de oua. Andrei i-a luat 7 si le-a spar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 oua mai are ra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2" action="ppaction://hlinksldjump"/>
          </p:cNvPr>
          <p:cNvSpPr/>
          <p:nvPr/>
        </p:nvSpPr>
        <p:spPr>
          <a:xfrm>
            <a:off x="4343400" y="3657600"/>
            <a:ext cx="106668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3" action="ppaction://hlinksldjump"/>
          </p:cNvPr>
          <p:cNvSpPr/>
          <p:nvPr/>
        </p:nvSpPr>
        <p:spPr>
          <a:xfrm>
            <a:off x="5638680" y="2590920"/>
            <a:ext cx="106704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4" action="ppaction://hlinksldjump"/>
          </p:cNvPr>
          <p:cNvSpPr/>
          <p:nvPr/>
        </p:nvSpPr>
        <p:spPr>
          <a:xfrm>
            <a:off x="5867280" y="4495680"/>
            <a:ext cx="106704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5" action="ppaction://hlinksldjump"/>
          </p:cNvPr>
          <p:cNvSpPr/>
          <p:nvPr/>
        </p:nvSpPr>
        <p:spPr>
          <a:xfrm>
            <a:off x="7010280" y="3581280"/>
            <a:ext cx="106704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7924680" y="5943600"/>
            <a:ext cx="762120" cy="91440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914400"/>
              <a:gd name="textAreaBottom" fmla="*/ 865080 h 914400"/>
            </a:gdLst>
            <a:ahLst/>
            <a:rect l="textAreaLeft" t="textAreaTop" r="textAreaRight" b="textAreaBottom"/>
            <a:pathLst>
              <a:path w="21600" h="25914">
                <a:moveTo>
                  <a:pt x="0" y="0"/>
                </a:moveTo>
                <a:lnTo>
                  <a:pt x="21600" y="0"/>
                </a:lnTo>
                <a:lnTo>
                  <a:pt x="21600" y="25914"/>
                </a:lnTo>
                <a:lnTo>
                  <a:pt x="0" y="25914"/>
                </a:lnTo>
                <a:close/>
              </a:path>
              <a:path fill="lightenLess" w="21600" h="25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14">
                <a:moveTo>
                  <a:pt x="21600" y="0"/>
                </a:moveTo>
                <a:lnTo>
                  <a:pt x="21600" y="25914"/>
                </a:lnTo>
                <a:lnTo>
                  <a:pt x="20200" y="24514"/>
                </a:lnTo>
                <a:lnTo>
                  <a:pt x="20200" y="1400"/>
                </a:lnTo>
                <a:close/>
              </a:path>
              <a:path fill="darkenLess" w="21600" h="25914">
                <a:moveTo>
                  <a:pt x="21600" y="25914"/>
                </a:moveTo>
                <a:lnTo>
                  <a:pt x="0" y="25914"/>
                </a:lnTo>
                <a:lnTo>
                  <a:pt x="1400" y="24514"/>
                </a:lnTo>
                <a:lnTo>
                  <a:pt x="20200" y="24514"/>
                </a:lnTo>
                <a:close/>
              </a:path>
              <a:path fill="lighten" w="21600" h="25914">
                <a:moveTo>
                  <a:pt x="0" y="25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14"/>
                </a:lnTo>
                <a:close/>
              </a:path>
              <a:path fill="darken" w="21600" h="25914">
                <a:moveTo>
                  <a:pt x="3794" y="5950"/>
                </a:moveTo>
                <a:lnTo>
                  <a:pt x="17806" y="12957"/>
                </a:lnTo>
                <a:lnTo>
                  <a:pt x="3794" y="1996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62120" y="5486400"/>
            <a:ext cx="12189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2819520" y="4191120"/>
            <a:ext cx="12189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4800600" y="5334120"/>
            <a:ext cx="12193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4" action="ppaction://hlinksldjump"/>
          </p:cNvPr>
          <p:cNvSpPr/>
          <p:nvPr/>
        </p:nvSpPr>
        <p:spPr>
          <a:xfrm>
            <a:off x="6934320" y="4343400"/>
            <a:ext cx="12189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228600" y="304920"/>
            <a:ext cx="4038480" cy="3012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952880" y="990720"/>
            <a:ext cx="38102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 camp sunt 3 miei , 2 iepurasi , 4 puiso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 picioare au in tot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7848720" y="61722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4989" y="3794"/>
                </a:moveTo>
                <a:lnTo>
                  <a:pt x="19002" y="10800"/>
                </a:lnTo>
                <a:lnTo>
                  <a:pt x="49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3705480" cy="3394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219320" y="762120"/>
            <a:ext cx="7696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purasul a adus ouale in cos. Pe drum a pierdut 18, acum mai are doar 1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 oua avea Iepurasu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2" action="ppaction://hlinksldjump"/>
          </p:cNvPr>
          <p:cNvSpPr/>
          <p:nvPr/>
        </p:nvSpPr>
        <p:spPr>
          <a:xfrm>
            <a:off x="4648320" y="3581280"/>
            <a:ext cx="106668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6553080" y="4572000"/>
            <a:ext cx="106704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4724280" y="4572000"/>
            <a:ext cx="106704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5" action="ppaction://hlinksldjump"/>
          </p:cNvPr>
          <p:cNvSpPr/>
          <p:nvPr/>
        </p:nvSpPr>
        <p:spPr>
          <a:xfrm>
            <a:off x="6629400" y="3581280"/>
            <a:ext cx="106668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7620120" y="5867280"/>
            <a:ext cx="761760" cy="76212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3799"/>
                </a:moveTo>
                <a:lnTo>
                  <a:pt x="17806" y="10805"/>
                </a:lnTo>
                <a:lnTo>
                  <a:pt x="3794" y="1781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267080" y="2908440"/>
            <a:ext cx="4648320" cy="3740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5800" y="685800"/>
            <a:ext cx="7696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-o zi Iepurila a mancat 25 de oua, a doua zi cu 8 mai put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 oua au ramas daca la inceput avea 50 ou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380880" y="3809880"/>
            <a:ext cx="9144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1981080" y="4800600"/>
            <a:ext cx="9144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4" action="ppaction://hlinksldjump"/>
          </p:cNvPr>
          <p:cNvSpPr/>
          <p:nvPr/>
        </p:nvSpPr>
        <p:spPr>
          <a:xfrm>
            <a:off x="457200" y="4876920"/>
            <a:ext cx="9144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5" action="ppaction://hlinksldjump"/>
          </p:cNvPr>
          <p:cNvSpPr/>
          <p:nvPr/>
        </p:nvSpPr>
        <p:spPr>
          <a:xfrm>
            <a:off x="1981080" y="3886200"/>
            <a:ext cx="9144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2514600" y="62485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952880" y="2666880"/>
            <a:ext cx="3805200" cy="387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62120" y="609480"/>
            <a:ext cx="76197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 coloreaza 45 de oua portocalii, cu 18 mai putine galbene, iar rosii cat cele galbene si portocalii impreu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 oua a vopsit in tot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457200" y="4267080"/>
            <a:ext cx="914400" cy="5335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1676520" y="3352680"/>
            <a:ext cx="914400" cy="533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1447920" y="5181480"/>
            <a:ext cx="91440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5" action="ppaction://hlinksldjump"/>
          </p:cNvPr>
          <p:cNvSpPr/>
          <p:nvPr/>
        </p:nvSpPr>
        <p:spPr>
          <a:xfrm>
            <a:off x="2514600" y="4267080"/>
            <a:ext cx="91440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8305920" y="62485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0:46:01Z</dcterms:created>
  <dc:creator>Loredana</dc:creator>
  <dc:description/>
  <dc:language>en-US</dc:language>
  <cp:lastModifiedBy>Loredana</cp:lastModifiedBy>
  <dcterms:modified xsi:type="dcterms:W3CDTF">2009-03-31T13:55:02Z</dcterms:modified>
  <cp:revision>23</cp:revision>
  <dc:subject/>
  <dc:title>Slide 1</dc:title>
</cp:coreProperties>
</file>